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EAE-CACD-4337-9D04-91ABBF78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40D-FDCA-4C19-8759-4487895C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938-56D9-4BE9-9161-7B63171D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074D-DA93-424F-BF96-B3A659C9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B7B0-3456-4F55-8FD6-D99A8C54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7927-28A9-48C4-9526-A49D2286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16FD-5F8B-45D6-A294-E738F245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C6F8-D6D0-4204-BC2C-1D870D4B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77DA-BD5B-42E1-955C-EF08A91B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01CE-1B06-4BFE-A485-67641A27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DACA-CE10-4960-95C2-B043C9BF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475-04B2-458C-9635-477890CA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5C76-A611-4680-9314-82C8D2F8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7F1A-BF62-4BEB-8948-99A6A389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6E1C-BC22-4D0A-AE86-FF03C497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0ECB-9D8C-4817-ACFF-228AB570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47D0-44D2-44FF-9282-04D5C282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4B46-3B6D-47C0-AA0C-FB50A5D6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F8B-D7CD-4363-9A0F-7FD9E527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8D0-41B3-4398-B8A9-B7C47FFB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FAD5-854B-4AB2-A5A0-3A1BCB6A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93A8-3BD0-4B6A-9DBA-8AFD7707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2D1-F0A8-4168-A1D6-FF0A6062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DCE5-634E-4534-90D0-EAAA8AB1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3273-9550-4DF9-8A85-D4DDAD045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6ADA-ABFE-44B4-BB29-AA85163E22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MCj04379900000[1]"/>
          <p:cNvPicPr/>
          <p:nvPr/>
        </p:nvPicPr>
        <p:blipFill>
          <a:blip r:embed="rId1"/>
          <a:stretch/>
        </p:blipFill>
        <p:spPr>
          <a:xfrm rot="857400">
            <a:off x="6300360" y="333000"/>
            <a:ext cx="2560680" cy="2441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IDENTIFICAREA NEVOILOR ELEVILOR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imes New Roman"/>
              </a:rPr>
              <a:t>Profes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IVANCU  CLAU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13" descr="OJTVAKCAREAUQ7CAWDKVL0CAL5OHRMCAUI74CPCA0SYOFECAADLBHQCAFM6Z31CARIQPU5CAYBEY6HCAWAKAO2CAI8XBJNCALD8NL2CAGXUU8HCARGCPE2CAN2WHHGCAVGYKV2CALL1MWOCA3KNL82CAN2292S"/>
          <p:cNvPicPr/>
          <p:nvPr/>
        </p:nvPicPr>
        <p:blipFill>
          <a:blip r:embed="rId2"/>
          <a:stretch/>
        </p:blipFill>
        <p:spPr>
          <a:xfrm>
            <a:off x="324000" y="4149720"/>
            <a:ext cx="163332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cc"/>
                </a:solidFill>
                <a:latin typeface="Times New Roman"/>
              </a:rPr>
              <a:t>RĂSPUNDEŢI LA URMĂTOAREA ÎNTREBARE: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19280" y="2637000"/>
            <a:ext cx="822960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Ce înseamnă să fi întreprinzător şi să acţionezi într-un spirit antreprenorial?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6" descr="MargBar"/>
          <p:cNvPicPr/>
          <p:nvPr/>
        </p:nvPicPr>
        <p:blipFill>
          <a:blip r:embed="rId1"/>
          <a:stretch/>
        </p:blipFill>
        <p:spPr>
          <a:xfrm>
            <a:off x="1332000" y="5373720"/>
            <a:ext cx="6696000" cy="98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j0424474"/>
          <p:cNvPicPr/>
          <p:nvPr/>
        </p:nvPicPr>
        <p:blipFill>
          <a:blip r:embed="rId2"/>
          <a:stretch/>
        </p:blipFill>
        <p:spPr>
          <a:xfrm>
            <a:off x="324000" y="1413000"/>
            <a:ext cx="1479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cc"/>
                </a:solidFill>
                <a:latin typeface="Times New Roman"/>
              </a:rPr>
              <a:t>Despre întreprinzător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8360" y="1413000"/>
          <a:ext cx="8229600" cy="4903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Ce şti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Ce vreau să şti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Ce am învăţ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e este întreprinzător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e este instrumentul principal al întreprinzătorulu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trumentul principal al întreprinzătorului este planul de aface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e este antreprenor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e sunt elementele componente ale planului de aface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m se realizează un plan de aface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ribuţiile întreprinzătorulu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m se face un studiu al pieţ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dalităţile de studiu a pieţ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Împărţirea sarcinilor într-o firm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m ne promovăm şi distribuim produs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ăile prin care se promovează şi distribuie un prod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Picture 88" descr=""/>
          <p:cNvPicPr/>
          <p:nvPr/>
        </p:nvPicPr>
        <p:blipFill>
          <a:blip r:embed="rId1"/>
          <a:stretch/>
        </p:blipFill>
        <p:spPr>
          <a:xfrm rot="20967000">
            <a:off x="250560" y="263520"/>
            <a:ext cx="145404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8" descr=""/>
          <p:cNvPicPr/>
          <p:nvPr/>
        </p:nvPicPr>
        <p:blipFill>
          <a:blip r:embed="rId1"/>
          <a:stretch/>
        </p:blipFill>
        <p:spPr>
          <a:xfrm rot="648600">
            <a:off x="7235640" y="259920"/>
            <a:ext cx="1584000" cy="1656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cc"/>
                </a:solidFill>
                <a:latin typeface="Times New Roman"/>
              </a:rPr>
              <a:t>Despre spiritul antreprenorial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95280" y="1628640"/>
          <a:ext cx="8229600" cy="4175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Ce şti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Ce vreau să şti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Ce am învăţ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iritul antreprenorial este înnăsc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iritul antreprenorial poate  fi şi dobând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m să ne dezvoltăm spiritul antreprenor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m poate fi ales traseul profes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ine ne poate influenţa în alegerea traseulu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valuarea propriului potenţ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e influenţează alegerea traseului profes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lanul personal de carier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ructura portofoliului pers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7:10:35Z</dcterms:created>
  <dc:creator>PC</dc:creator>
  <dc:description/>
  <dc:language>en-US</dc:language>
  <cp:lastModifiedBy>Carmen</cp:lastModifiedBy>
  <dcterms:modified xsi:type="dcterms:W3CDTF">2011-03-24T08:56:50Z</dcterms:modified>
  <cp:revision>27</cp:revision>
  <dc:subject/>
  <dc:title>EVALUARE INIŢIALĂ</dc:title>
</cp:coreProperties>
</file>